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BFE6-E41D-4DE0-8CAA-8EC71F03AD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9A6C-12B8-4D42-8490-2D180EAC1A0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136-C459-41B0-B33B-D497C109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B7A-DA93-47FC-BB17-8AFC9486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297-869C-4B87-A8AF-B8BB1DD3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1B6-7456-4FBF-95B7-658EBC6D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711-DCD8-4BD0-8BDA-15373740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F44-F333-43EF-8F59-6F559EE8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081-1AC1-48B9-8748-5BCC61B1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B85-6236-4DF1-9A8E-584239FF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861-DF3D-4B20-8FF4-8B07498D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481-B523-497B-B7D0-6B5301B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104-7C8F-4FBC-B049-14F48FF8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307-FAEB-4750-ADC2-81941D14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64C-CFC3-4935-BBCB-183F2035D684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линичка фармација 1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Г03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едавање бр. 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Основни биохемијски параметри, дијагностичке  методе и тестови </a:t>
            </a:r>
            <a:r>
              <a:rPr b="1" lang="sr-Latn-C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оц. др Срђан Стефановић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Прокалцитонин (ПЦ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ептидни прекурсор калцито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 серуму здравих особ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0.01 µ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иво ПЦТ расте код бактеријске, али не и вирусне инфекције, односно неинфективних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 бактеријској сепси - више стотина јед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За разлику од ЦРП показује већу сензитивност за бактеријске инфекције, вредности му се брже враћају на референтне и има мањи распон референтних концен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датна предност - смањује непотребну примену антибиотика, чиме побољшава непосредне здравствене и економске исх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мене у броју леукоц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спитивање леукоцита (белих крвних зрнаца) обухв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ређивањ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укупног бро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у 1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крви (нормално код одраслих ≈ 4-1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x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/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већи код деце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ређивањ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еукоцит(ар)не формул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псолутни број и процентуална заступљеност појединих вр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92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утрофил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≈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44 – 7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92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имфоци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≈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0 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46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92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Моноци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≈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 – 1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92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Еозинофи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≈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0 - 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92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азофи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≈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0 – 1 %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утрофили, еозинофили и базофили =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ранулоц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УКОЦИТОЗ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»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ораст броја леукоцита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523880"/>
          <a:ext cx="9144000" cy="5913720"/>
        </p:xfrm>
        <a:graphic>
          <a:graphicData uri="http://schemas.openxmlformats.org/drawingml/2006/table">
            <a:tbl>
              <a:tblPr/>
              <a:tblGrid>
                <a:gridCol w="2292480"/>
                <a:gridCol w="2471760"/>
                <a:gridCol w="2330280"/>
                <a:gridCol w="2049480"/>
              </a:tblGrid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трофилиј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имфоцитоз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оноцитоз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озинофилиј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507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кутне бактеријске инфекциј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Гљивичне и неке инфекције протозоама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ф. дијагностички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нфаркт срца и д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вреде, опекоти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клампсија, Ак. гихт, Уремија, Синд. Кушинг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укемије, полицитемиј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нтоксикациј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ушачи, гојазне особ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кови: КС, ОК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кутне вирусне и неке бактеријске инфекциј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бакутне и хроничне инфекциј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ф. </a:t>
                      </a: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јагностички</a:t>
                      </a: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укемије, лимфо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еке бактериј. инфекције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БЦ, СБЕ, бруцелоза, тифус и др.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нфекције протозоа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еке вирусне инфекције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М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ф. дијагностички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алигна обољењ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ЛЕ, Улцерозни колитис, М. Кро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аразитарне инфекциј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ф. дијагностички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лергијске реакциј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еке кожне боле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ека малигна обољењ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озинофилни синдро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укоцит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-51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"Леукемоидна реакција": вишеструко повећање укупног броја леукоцита у крви (и до неколико десетина хиљада), са појавом млађих, незрелих облика у периферном разм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ранулоцитног типа: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ешке бактеријске инфекциј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сепса), тешка крвављења, опекотине, тровањ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мфоцитног типа: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кутне вирусне инфекциј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ИМ, осипне грознице и сл.),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велики кашаљ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 нека кожна обољењ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Друге промене у крвној слици као последица инфе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ешке бактеријске и вирусне инфе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могу бити компликован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ЕУКОПЕНИЈ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РОМБОЦИТОПЕН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НЕМ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смањење концентрације хемоглобина и масе еритроцит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ЕМОЛИТИЧКА (бактерије, вируси, протоз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хроничних инфекција јавља се тзв. АНЕМИЈА ХРОНИЧН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већан ХЕМАТОКРИТ: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наци хемоконцентрације код великог губитка течности (повраћање, пролив, знојење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Анализе у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ринарне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кроскопски: замућена мокраћа (Ле, Ер, Бакт., Пр.), непријатног ми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азна реакција у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еукоцитур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седимент ур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ално &lt;5 Ле у видном пољу под микроскоп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има &gt;100 у видном пољу - п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актериур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нормално нема бактерија у ури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ловно: &gt; 100 000/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l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начајна; &lt;10000/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– вероватно контамин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Анализе у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ринарне инфекције (настава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ротеинуриј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ално до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150 mg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/ 24 сат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рење семиквантитативно (0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+, ++, +++, ++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вантитативно одређивање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/l) – Esb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еритроцитурија/хематур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седим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езначајно: 1-3 Ер у видном по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крохематурија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&lt;1 ml/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р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-20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видном по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крохематури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&gt;1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ml/l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рина или &gt;20 Ер у видном по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еукоцитни и др. цилиндри у седименту (ћелије + проте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Анализе у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фекције других органа/Системска инфекција (сеп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лигурија (дехидратација, оштећење бубрежне фун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перстенурија (повећана специфична тежина урина: &gt;103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/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 – дехидратација, 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теинурија (повишена телесна температура, хиперкатаболиза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штећење бубре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емоглобинурија, билирубинурија, уробилиноген/уробилин у мокраћи (хемолиза, хепатоцелуларно оштећење-хепатит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араметри кардиоваскуларног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Метаболички синдром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ртеријска хипертен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ојазност (централ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ремећај толеранције глукоз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нсулинска резистенциј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Д. М. тип 2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FG, IG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ислипидемија (Хиперлипопротеинем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ВЕЋАН РИЗИК ЗА АТЕРОСКЛЕРОЗУ И ЊЕНЕ КОМПЛИКАЦИЈЕ (ИБС, ЦВИ, ХСИ, напрасна срчана смрт, ПВ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"Мртвачки кварте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Синдром инфек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бетес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мели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изик од хроничних микро и макроваскуларних компликација повећав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вишене гликемије на таште: &gt;6.5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вишене постпрандијалне гликемије (2 сата после јела): &gt; 9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вишена вредност гликозилираног хемоглобин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Hb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казатељ метаболичке контроле болести (концентрације гликемије) у претходна 2-3 месеца (8-12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жељна вредност &lt;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кроалбумину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индроми поремећене толеранције глукозе ("предијабетесно стање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F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Impaired Fasting Glucos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–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убитак нормалне гликемија наште (6.1-7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GT (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Impaired Glucose Toleranc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–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мањена толеранција глукозе (гликемија у току ОГТТ теста у 120 минуту: 7.8-11.1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mol/l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Дислипидемије (Хиперлипопротеинемиј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гностички лош профил ("Принцип 5-4-3-2-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већан укупни ХОЛЕСТЕРОЛ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&gt;5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већани ТРИГЛИЦЕРИД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&gt;2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већан ЛДЛ холестерол*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&gt;3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мањен ХДЛ холестер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&lt;1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и томе, од апсолутних вредности масноћа у крви, важнији ј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њихов међусобни одно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терогени индекс = укХол / ХД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је &gt;5 =&gt;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ризик од КВС комликација (АИ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25040" y="6172200"/>
            <a:ext cx="76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ЛДЛ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(mmol/l)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= укХОЛ – ХДЛ – ТГЛ/2.2, само ако су ТГЛ&lt;4.5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mmol/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Дислипидемије (Хиперлипопротеинемиј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енотипска класификација по Фридриксону (модификована од СЗ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6 типова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, 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III, IV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чешћи (40-50%)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 тип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↑↑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ОЛ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ГЛ, висок атерогени риз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тип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↑↑↑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ГЛ, Н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ОЛ, знатно мањи атерогени ризик од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сок ризик за АТС карактерише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ДЛ је смањен код свих облика (код типа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 може бити и нормал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Остали фактори ризика за кардиоваскуларне компл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hs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("високосензитивни") ЦРП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&gt;3 мг/л =&gt; висок ризик од КВС компл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ркер вулнерабилности плака (инфаркт срца, мозг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Хиперурикемиј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↑ мокраћна киселина у крви) – ентитет метаболичког синдрома (гојазно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иф. Дг: алкохолизам, исхрана, малигне болести (после терапије), бубрежна инсуфицијенција,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Хипервискозни синдром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већан ХЕМАТОКРИТ (повећана маса еритроцита, полицитем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изик од артеријских и венских тромбоз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кутни коронарни синдром (АК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С: нестабилна ангина пекторис, акутни инфаркт миокарда (са или без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Q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упца у ЕКГ-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жан критеријум за постављање дијагнозе су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ардиоспецифични ензим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који услед исхемијског оштећења излазе из ћелије у крв (већа вредност = веће оштеће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значајнији за дијагнозу инфаркта срца су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РОПОНИНИ И 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2х позитивни у 12 сати код 99% пацијената са инфакт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двајају инфаркт (некрозу миокарда) од нестабилне ангине (без некро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гу бити позитивни и у одсуству повећања других ен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начајна је и ЦПК (креатин-фосфокиназа), посебно њен изоензим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ЦПК-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 специфичан за миокард (ЦПК има и у скелетним мишићи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кутни коронарни синдром (АК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специфични ензим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 миоглобин (велика сензитивност, јавља се први) и ЛДХ (лактатна дехидроген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Остали маркери и прогностички фактор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Е, ЦРП, леукоцитоза, фибриног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НП и НТ-проБНП (важни и за дијагнозу и прогнозу срчане инсуфицијен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Анем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одела анем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ема узрок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бог губитка крви (акутног и хронич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бог смањене еритропоезе (сидеропенијска, мегалобластн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бог хемолизе (деструкције еритроцита на перифериј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ема изгледу еритроцит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кроцитне-хипохромне: сидеропенијска (дефицит гвожђ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оцитне-нормохромне: анемија хроничне болести (инфлам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кроцитне-хиперхромне: мегалобластна (дефицит витамина Б12 или фолне кисел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ализа крвне слик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(I Dg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ни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459000" indent="-29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мањена концентрација хемогло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9000" indent="-29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мањен број еритр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9000" indent="-29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мањен хематок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9000" indent="-29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ремећај еритроцитних индекса: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CV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средња запремина Ер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дефицита Фе,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 дефицита витамина Б12 или фолне кисели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78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CH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средња вредност количине Хгб у Ер)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д деф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CHC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ср. вредност концентрације Хгб у Ер)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д деф.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DW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индекс анизоцитозе*)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 деф. Фе, вит. Б12 и фолне 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i="1" lang="sr-CS" sz="1800" spc="-1" strike="noStrike">
                <a:solidFill>
                  <a:srgbClr val="000000"/>
                </a:solidFill>
                <a:latin typeface="Comic Sans MS"/>
              </a:rPr>
              <a:t>Анизоцитоза – присуство Ер различите величине у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Инфекције - под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ма врсти проузроков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актериј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иру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љивич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икециј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разитарне, укључујући и инфекције изазване протозо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ма клиничком току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кут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бакут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ронич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олести јет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епатоцелуларно оште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-696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зроци: вируси, лекови, токсин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Доминира пораст трансаминаза јетре у кр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услед оштећења хепатоцита, ови ензими излазе у кр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5040" indent="-36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Л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ГПТ) 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С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ГОТ): клинички значајно повећање је оно &gt;3 пута изнад горње границе норм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5040" indent="-36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ЛТ специфичнији за јетр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међутим код алкохолног хепатитиса могућ је инверзни однос (АСТ&gt;АЛ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Са или без жутиц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интрахепатичне холеста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5040" indent="-36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бог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хипербилирубинемије (&gt;2 пута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 претежно коњугов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5040" indent="-36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ва 3 жучна пигмента у урин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билирубин, уробилиноген, уробилин) – "мокраћа боје пива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олестазно оште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оминира пораст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лкалне фосфатаз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ЛП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) у крви (&gt;2 пута), са или без жутице (пораст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билирубин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&gt; 2 пу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ЛП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лаго повећана и код вирусних хеп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иф. Дг: коштане болести (М.Паџет, малигни тумори и метастазе, хиперпаратиреоидизам, рахитис/остеомалација, зарастање прелома), болести бубрега, цревна обољења, 3. триместар трудноће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Мешовито оште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ЛТ + ↑ АЛП, са или без ↑ билиру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ама-глутамил трансфераза (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γ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Т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осетљивији показатељ оштећења 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дуцибилни микрозомални ензим (алкохол, лекови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крининг за откривање алкохоличара и индикатор алкохолиса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акутних вирусних хепатитиса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↑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5-8 пу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олестазни ензим: код опструктивне жутице* (екстрахепатичне) виш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↑  него код хепатоцелуларног оштећ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пструктивна жутица (иктеру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јчешћи узроци: калкулоза, тумор панкре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рви: ↑ билирубин (коњуговани), АЛП,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γ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 урину: билиру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 столици: нема жучних пигмената (светла-ахолична столица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оказатељи поремећаја синтетске функције јет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CHILD – PUGH score’’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 (лаб.)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мањена концентрација албум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иф. Дг: старост, потхрањеност, гладовање, нефротски синдром, малигне болест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већан ИНР (продужено протромбинско врем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иф. Дг: опструктивна жу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ипербилирубинемија (претежно некоњуговани билируб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иф. Дг: хемолиза, опструктивна жу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omic Sans MS"/>
              </a:rPr>
              <a:t>MELD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sr-Latn-RS" sz="4400" spc="-1" strike="noStrike">
                <a:solidFill>
                  <a:srgbClr val="000000"/>
                </a:solidFill>
                <a:latin typeface="Comic Sans MS"/>
              </a:rPr>
              <a:t>MELD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Latn-RS" sz="4400" spc="-1" strike="noStrike">
                <a:solidFill>
                  <a:srgbClr val="000000"/>
                </a:solidFill>
                <a:latin typeface="Comic Sans MS"/>
              </a:rPr>
              <a:t>plus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 ск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За процену тежине хроничне инсуфицијенције јетре код хоспитализованих 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редвиђају ризик од смртног исхода и класификују пацијенте у смислу хитности за трансплантацију јетре/ТИ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Заменили су 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HILD – PUGH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кор приликом избора приоритетних кандидата за трансплантацију 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LD –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ерумски билирубин и креатинин, И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LD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us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– критеријум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LD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скора + серумски натријум, албумин, укупни холестерол, број леукоцита, старост и дужина боравка у бол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олести бубр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убрежна инсуфициј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 крв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аст концентрације УРЕЕ и КРЕАТИНИНА ("азотних материја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РЕАТИНИН је специфичнији показатељ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реа може бити повишена код високопротеинске исхране, крварења, постреналне опструкције протока урин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 основу серумског креатинина може се израчунати његов клиренс помоћ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COCKROFT – GAULT формул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р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 (140–године)*Тежин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g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/ (72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р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серу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mg/d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жена, множи се са 0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i="1" lang="sr-Latn-CS" sz="2000" spc="-1" strike="noStrike">
                <a:solidFill>
                  <a:srgbClr val="000000"/>
                </a:solidFill>
                <a:latin typeface="Comic Sans MS"/>
              </a:rPr>
              <a:t>mg/dl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= 88.4 микромола/литр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Друге формуле за процену бубрежне инсуфицијен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D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KD-E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ведене су због непрецизност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COCKROFT – GAULT формуле у процени брзине ГФ и дозирања лекова код 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бе формуле користе стандардизовану вредност серумског креатин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DMS-calibrated ass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зимају у обзир старост, пол и расу, изражавају резултат у односу на стандардну Тп (1,73 м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) и разликују се по коефицијентима/експонен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KD-EPI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боље процењује брзину ГФ код здравих ос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KD-EPI </a:t>
            </a:r>
            <a:r>
              <a:rPr b="0" i="1" lang="sr-R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ључује и серумску вредност цистатина 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оремећаји биохемијских параметара кр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свих инфекција - "Биохуморални запаљенски синдром": убрзана седиментација еритроцита, пораст "реактаната акутне фазе", измене у крвној сл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вај поремећај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ије специфича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за инфективна обољења, већ се јавља и код других патолошких стања праћених оштећем ткива и запаљењем (инфламацијом): аутоимуних болести (нпр. СЛЕ, РА и др.), акутног панкреатитиса, инфаркта срца, малигних обољења, хемијских и физичких оштећења ткива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убрежна инсуфициј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Клиренс креатинина у 24-часовном у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узданији налаз од концентрације  креатинина у серу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Ккр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ml/min)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= Кр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урин)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*диуреза / Кр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серум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коригује се за идеалну телесну површину од 1.73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Благ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нсуфицијенција: 20-50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мерен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нсуфицијенција: 10-20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еш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нсуфицијенција: &lt;10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l/min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убрежна инсуфициј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стали поремећаји (код тежих облик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н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таболичка ацид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перкал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покалц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перфосфат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перурикемија,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Оштећење бубрега – Налаз у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отеинурија: већа вредност (масивна) =&gt; теже оштећ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Цилидри у урину: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укоцитни, епителни, хијалини, гранулисани, масни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ематуриј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леди еритроцити: крварење из бубрега, често удружено са протеинур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иф. Дг: свежи еритроцити - крварење дистално од бубрега, без протеину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Кључне пору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абораторијске анализе крви и урина су важно помоћно дијагностичко сре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ликом интерпретације налаза (резултата) обавезно уважити све релавантне параметре везане за саму методу и за пациј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 ЛЕЧИТИ НАЛАЗ (дијагнозу), ВЕЋ ПАЦИЈЕН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Брзина седиментације еритроцита (С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рзина таложења еритроцита под дејством силе теже (гравитације) када је спречено згрушавањ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акро и микрометоде ме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зражава у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m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/сат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с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ормалне вредности нeштo више код жен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ушкарци ≈ 2-6/7-10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жене ≈ 3-8/8-12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Брзина седиментације еритроцита (С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брзан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већан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– углавном због повећања концентрације протеина у крви (Ф, ИГ, ИК, ГП, ЛП), али и код смањења албум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изиолошки: старост, трудноћа, менструациј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толошки: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кутне/хроничне инфе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малигни тумори, тешка анемија, аутоимуне болести, и др. запаљенски и некротички процеси у органи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ал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мањена СЕ (мањи значај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олести јетре, кахексија, полицитемија, хипоимуноглубулинемија, алергије, лекови (АСК, КС)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ораст "реактаната акутне фазе" (РАФ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актанти акутне фазе: протеини чија се концентрација у крви повећава као одговор на повреду или инфек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јачано се синтетишу се у јетри под дејством проинфламаторних цитокина (ИЛ-1, ИЛ-6, ТНФ-алф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мају неспецифичну одбрамбену ул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Ф: Ц-реактивни протеин, фибриноген, прокалцитонин, алфа-1 кисели гликопротеин, алфа-1 антитрипсин, церулоплазмин, Ц-4 компонента комплемент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утински се ме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Ц-реактивни протеин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фибриноге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 у болничким условима и 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прокалцитон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Ц-реактивни протеин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зив – везује се за Ц полисахарид ћелијског зида пнеумок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Ф чији се ниво у крви најчешће и најбрже повећава – део природног имуног од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ик у плазми ≈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48 сати од почетка болести, полуживот 19 сат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ормална концентра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 &lt;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(10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g/l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стандарна мет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лага инфламација, вирусна инфек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 10-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40 (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g/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ли и после напора, код пушача и трудниц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ктивна (снажна) инфламација,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актеријска инфек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40(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20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ешка инфекција (сепса)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аума, опекотине: &gt;20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ибриног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з албумин и глобулине главна беланчевина 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новна улога - у згрушавању крви (хемостаз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ална концентрација: 2-4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ебан значај у диференцијалној дијагнози код повећане концентрације у крви: запаљенска реуматска обољења (РА, М. Бехтерев, Акутни урични артритис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ална (смањена) концентрација: тромбоемболије (ДИК синдром), инсуфицијенција јетре, неке малигне болести (метастазе)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23:00:46Z</dcterms:created>
  <dc:creator>Srdjan Stefanovic</dc:creator>
  <dc:description/>
  <dc:language>en-US</dc:language>
  <cp:lastModifiedBy>User</cp:lastModifiedBy>
  <dcterms:modified xsi:type="dcterms:W3CDTF">2019-09-12T21:45:05Z</dcterms:modified>
  <cp:revision>157</cp:revision>
  <dc:subject/>
  <dc:title>Професионални стандарди за обављање фармацеутске делатности: стандарди добре апотекарске праксе</dc:title>
</cp:coreProperties>
</file>